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6D5-5216-4F13-856A-EF498642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5C9-A32A-45CD-8AEE-25EF9392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BCB4-820F-4C05-92F3-DD3EF82B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D48-DD4E-4881-8C05-43234EA2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5A1A-0E49-4465-9D27-5F6B0B4C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77C3-C161-4086-8DD6-48CD9DBD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22D2-AFA0-44BA-8785-B3A5ACA3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7C8A-C52C-4901-9299-CFFD76BE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AE42-92B3-4989-AFF3-0B2A7488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F562-7584-403D-BAE2-2461C23B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29F6-A4B7-4255-9A75-0A0A2767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F56-E052-44D5-BF54-292B47BA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187-5DDF-4271-9F14-426CE9F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7547-4B38-474B-9FDF-DA7A833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D718-CC75-4034-A3B0-6992DCB8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B37A-D15D-4DB9-A584-49186453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955C-5659-4B4A-B8D5-9D7A717A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3AD-1F82-41C7-A1A2-33168A2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8CC-9E14-4C45-8EA9-2AB19484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022-4321-4837-828B-38F1FF1B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F69-FBA0-4AAE-94EF-B73C63D2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F6B-0843-44ED-81E6-860180C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D22-30B4-48A4-A617-98A2AA9A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36B-A1F7-4151-9410-5E6BBA9F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AA95-56A4-494A-A68D-5192616E14B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A158-1A8B-428B-BEB6-09E06922896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yfaint Pr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1295280" y="3048120"/>
            <a:ext cx="1371600" cy="1981080"/>
          </a:xfrm>
          <a:prstGeom prst="can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4267080"/>
            <a:ext cx="1828800" cy="1676520"/>
          </a:xfrm>
          <a:prstGeom prst="cube">
            <a:avLst>
              <a:gd name="adj" fmla="val 25000"/>
            </a:avLst>
          </a:prstGeom>
          <a:solidFill>
            <a:srgbClr val="ff7c8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2362320"/>
            <a:ext cx="3962520" cy="1295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95280" y="609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Beth yw Prism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98108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Prism yw unrhyw siap sydd a trawsdoriad unffurf </a:t>
            </a:r>
            <a:r>
              <a:rPr b="0" lang="en-GB" sz="3600" spc="-1" strike="noStrike">
                <a:solidFill>
                  <a:srgbClr val="ff7c80"/>
                </a:solidFill>
                <a:latin typeface="Tahoma"/>
              </a:rPr>
              <a:t>(uniform cross-section).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5907800">
            <a:off x="2666520" y="4266720"/>
            <a:ext cx="838440" cy="129564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962520"/>
            <a:ext cx="1447560" cy="990360"/>
          </a:xfrm>
          <a:prstGeom prst="cube">
            <a:avLst>
              <a:gd name="adj" fmla="val 25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6248520"/>
            <a:ext cx="4114800" cy="60948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1828800"/>
            <a:ext cx="4647960" cy="685800"/>
          </a:xfrm>
          <a:prstGeom prst="rect">
            <a:avLst/>
          </a:prstGeom>
          <a:solidFill>
            <a:srgbClr val="ecd882">
              <a:alpha val="50000"/>
            </a:srgbClr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ut mae darganfod cyfaint prism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19051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y prism yw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wynebedd y trawsdoriad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3581280"/>
            <a:ext cx="1828800" cy="2362320"/>
          </a:xfrm>
          <a:prstGeom prst="cube">
            <a:avLst>
              <a:gd name="adj" fmla="val 23439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828440" y="4952880"/>
            <a:ext cx="304920" cy="1371600"/>
          </a:xfrm>
          <a:prstGeom prst="line">
            <a:avLst/>
          </a:prstGeom>
          <a:ln w="4140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rwynebedd = lled x 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343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hyd x lled x 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26668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Tahoma"/>
              </a:rPr>
              <a:t>Ciwboid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90720" y="6858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e.1 Darganfyddwch cyfaint y siap canlyn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798200">
            <a:off x="837720" y="2208960"/>
            <a:ext cx="2210040" cy="114300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190512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hyd x lled x 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8 x 6 x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144cm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295280" y="53352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Prism Trionglo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057400"/>
            <a:ext cx="4191120" cy="213372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2286000"/>
            <a:ext cx="0" cy="17524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uch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781200">
            <a:off x="1752120" y="4190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19720" y="41911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3733920"/>
            <a:ext cx="3505320" cy="8380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4114800"/>
            <a:ext cx="152280" cy="3808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752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43600" y="1752480"/>
                <a:ext cx="27432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il x uchde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y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2057400"/>
            <a:ext cx="4191120" cy="213372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286000"/>
            <a:ext cx="0" cy="17524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781200">
            <a:off x="1752120" y="4190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4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733920"/>
            <a:ext cx="3505320" cy="8380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4419360" y="4114800"/>
            <a:ext cx="152280" cy="3808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6858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e.2 Darganfyddwch cyfaint y prism trionglog hy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1905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(sail x uchder)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362320"/>
            <a:ext cx="18288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008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281952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(14 x 8) x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3276720"/>
            <a:ext cx="1067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8862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112 x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638680" y="44197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95288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56 x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 280m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09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0458c"/>
                </a:solidFill>
                <a:latin typeface="Tahoma"/>
              </a:rPr>
              <a:t>Cyfaint Silindr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135200">
            <a:off x="838080" y="2209320"/>
            <a:ext cx="2057400" cy="236232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352680"/>
            <a:ext cx="609480" cy="533520"/>
          </a:xfrm>
          <a:prstGeom prst="line">
            <a:avLst/>
          </a:prstGeom>
          <a:ln w="158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adiw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76520" y="4724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4572000"/>
            <a:ext cx="1371600" cy="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2286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</a:t>
            </a:r>
            <a:r>
              <a:rPr b="0" lang="en-GB" sz="32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r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rot="16135200">
            <a:off x="838080" y="2209320"/>
            <a:ext cx="2057400" cy="236232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3352680"/>
            <a:ext cx="609480" cy="533520"/>
          </a:xfrm>
          <a:prstGeom prst="line">
            <a:avLst/>
          </a:prstGeom>
          <a:ln w="158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76520" y="4724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2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4572000"/>
            <a:ext cx="1371600" cy="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2286000"/>
            <a:ext cx="4267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yfaint = </a:t>
            </a:r>
            <a:r>
              <a:rPr b="0" lang="en-GB" sz="3200" spc="-1" strike="noStrike">
                <a:solidFill>
                  <a:srgbClr val="40458c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r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hy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3.14 x 5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x 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3.14 x 5 x 5 x 1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= 942 cm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80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e.3 Beth yw cyfaint y silindr canlynol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295280" y="533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Ymarfer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– Darganfyddwch cyfaint y canlyn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135200">
            <a:off x="757080" y="2290320"/>
            <a:ext cx="1600200" cy="1752480"/>
          </a:xfrm>
          <a:prstGeom prst="can">
            <a:avLst>
              <a:gd name="adj" fmla="val 50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3352680"/>
            <a:ext cx="228600" cy="228600"/>
          </a:xfrm>
          <a:prstGeom prst="line">
            <a:avLst/>
          </a:prstGeom>
          <a:ln w="158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4114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4114800"/>
            <a:ext cx="914400" cy="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1600200"/>
            <a:ext cx="4191120" cy="2133720"/>
          </a:xfrm>
          <a:prstGeom prst="triangle">
            <a:avLst>
              <a:gd name="adj" fmla="val 50000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1828800"/>
            <a:ext cx="0" cy="17524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4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781200">
            <a:off x="4495320" y="3733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3733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276720"/>
            <a:ext cx="3505320" cy="8380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162560" y="3657600"/>
            <a:ext cx="152280" cy="380880"/>
          </a:xfrm>
          <a:prstGeom prst="line">
            <a:avLst/>
          </a:prstGeom>
          <a:ln w="158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0798200">
            <a:off x="837720" y="5104800"/>
            <a:ext cx="2210040" cy="1143000"/>
          </a:xfrm>
          <a:prstGeom prst="cube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3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4648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7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5943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3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0798200">
            <a:off x="4952160" y="4876200"/>
            <a:ext cx="2210040" cy="1523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f89f7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8660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7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9132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6095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3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828800"/>
            <a:ext cx="38088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1447920"/>
            <a:ext cx="38124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648320"/>
            <a:ext cx="38124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4419720"/>
            <a:ext cx="380880" cy="581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08:01:37Z</dcterms:created>
  <dc:creator>RM</dc:creator>
  <dc:description/>
  <dc:language>en-US</dc:language>
  <cp:lastModifiedBy>RM</cp:lastModifiedBy>
  <dcterms:modified xsi:type="dcterms:W3CDTF">2002-10-31T09:19:09Z</dcterms:modified>
  <cp:revision>9</cp:revision>
  <dc:subject/>
  <dc:title>Cyfaint Prism</dc:title>
</cp:coreProperties>
</file>